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817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087-9764-4FC5-90DA-61380B4A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3BF-1947-4692-B3F2-272FC4AD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3DC-B14E-433D-951F-377E4C10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644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55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869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644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55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943-A385-4661-B741-248966CD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56C-E2FC-4A14-A3A2-948E4086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088-F9DA-4B9B-BF8A-55A3BCAA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0C5-C19D-4A45-AE7B-FC02443D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55E-1C59-470E-8860-5990A2F1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2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3E4-823F-4180-AD81-2CB57E5C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464-C3C2-47C6-AC7B-1132CE4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A3B-3926-454F-8D48-613037B4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69B-7987-4EEE-B0F9-6F5EBA71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2" marL="1257480" indent="-34308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4" marL="2006640" indent="-17784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5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6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1920" y="6235560"/>
            <a:ext cx="82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2417-124B-4AE8-B11A-3B5E415A4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11400"/>
            <a:ext cx="77724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4574"/>
                </a:solidFill>
                <a:latin typeface="Arial"/>
              </a:rPr>
              <a:t>Colon Diseases</a:t>
            </a:r>
            <a:endParaRPr b="0" lang="en-US" sz="4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Diverticular disease / diverticu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Ulcerative Co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hrohns disease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lyp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Volvulu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120" y="1945800"/>
            <a:ext cx="63342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Heralding the Comparisons </a:t>
            </a:r>
            <a:br>
              <a:rPr sz="3600"/>
            </a:b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of Minimally Invasive and Open Colon Surgery</a:t>
            </a:r>
            <a:endParaRPr b="0" lang="en-US" sz="36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Already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Minimally invasive colon surgery is a patient-friendly option with meaningful advantages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scarring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pain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recovery time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Need To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Numerous advantages of minimally invasive surgery (MIS) for colon cancer 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Equal oncological clearance to open colectomy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Fewer complications of wound infection, anastomotic leak, etc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Greater range of patients than previously thought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Patient-friendly (shorter hospital stay, less pain, etc)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Efficacy comparisons via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ST Trial – 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rates of recurrence were similar: 16% MIS and 18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32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Recurrence rates in surgical wounds were less than 1% in both</a:t>
            </a: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0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overall survival rates was similar in both groups: 86% MIS and 85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1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Barcelona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MIS associated with reduced risk of tumor relap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7,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verall Survival - MIS associated with reduced risk of death from any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22)</a:t>
            </a: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Cancer Survival - MIS associated with reduced risk death from a cancer-related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3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LOR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Postoperative exam showed no differences between resected samples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No difference in morbidity/mortality 28 days after colectomy according to location of resec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Elderly patients were not excluded from trial </a:t>
            </a:r>
            <a:br>
              <a:rPr sz="1400"/>
            </a:b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(median age=71)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besity no longer regarded as contraindica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M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inimally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I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nvasive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C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olorectal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R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esection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O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utcomes</a:t>
            </a:r>
            <a:r>
              <a:rPr b="0" lang="en-US" sz="2400" spc="-1" strike="noStrike">
                <a:solidFill>
                  <a:srgbClr val="124574"/>
                </a:solidFill>
                <a:latin typeface="FranklinGothic-Demi"/>
              </a:rPr>
              <a:t>: Short-term Comparison with Open Procedures: </a:t>
            </a:r>
            <a:r>
              <a:rPr b="0" lang="en-US" sz="2000" spc="-1" strike="noStrike">
                <a:solidFill>
                  <a:srgbClr val="124574"/>
                </a:solidFill>
                <a:latin typeface="FranklinGothic-Demi"/>
              </a:rPr>
              <a:t>MICRO Review</a:t>
            </a:r>
            <a:br>
              <a:rPr sz="2000"/>
            </a:br>
            <a:endParaRPr b="0" lang="en-US" sz="2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inimally invasive colon surgery means fewer intraoperative and perioperative complications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ower rates of wound infection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&lt;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anastomotic leak and venous thromboembolism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cardiac event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Despite minimally invasive colon surgery requiring longer surgical time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smaller incision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ess blood los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ewer transfusion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ean GI recovery times were faster for minimally invasive colon surgery than open surgery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irst bowel movemen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oral intake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normal die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00"/>
              </a:spcBef>
              <a:buSzPct val="122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Benefits consistent across all conditions </a:t>
            </a:r>
            <a:br>
              <a:rPr sz="1600"/>
            </a:b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(cancer, IBD, diverticular disease)</a:t>
            </a: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bdominal Incision 6-10 inch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Wound edges held apart to allow access to abdominal contents.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rtion of diseased colon mobilized and resected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fter operation completed abdominal wound is closed with sutur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aroscopic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bdomen insufflated with CO2 gas to create working spac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Trocars placed to allow camera and instrument insertion into the abdome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Operation performed by viewing on video monitor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Diseased colon mobilized and removed through small abdominal incisio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fter operation completed small incisions closed with sutur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See video / pictures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v. Lap Colectomy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/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 Colon Set Up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Anastomosi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r on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d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7:33:32Z</dcterms:created>
  <dc:creator>John Hart</dc:creator>
  <dc:description/>
  <dc:language>en-US</dc:language>
  <cp:lastModifiedBy>MMoore2</cp:lastModifiedBy>
  <dcterms:modified xsi:type="dcterms:W3CDTF">2007-09-24T21:18:45Z</dcterms:modified>
  <cp:revision>96</cp:revision>
  <dc:subject/>
  <dc:title>Comparison of Short-term Outcomes for Minimally Invasive versus Open Surgery for Colorectal Resection:  A Systematic Literature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7601927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